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11.wmf" ContentType="image/x-wmf"/>
  <Override PartName="/ppt/media/image3.png" ContentType="image/png"/>
  <Override PartName="/ppt/media/image9.wmf" ContentType="image/x-wmf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jpeg" ContentType="image/jpeg"/>
  <Override PartName="/ppt/media/image1.png" ContentType="image/png"/>
  <Override PartName="/ppt/media/image4.wmf" ContentType="image/x-wmf"/>
  <Override PartName="/ppt/media/image5.wmf" ContentType="image/x-wmf"/>
  <Override PartName="/ppt/media/image6.png" ContentType="image/png"/>
  <Override PartName="/ppt/media/image2.png" ContentType="image/png"/>
  <Override PartName="/ppt/media/image10.wmf" ContentType="image/x-wmf"/>
  <Override PartName="/ppt/media/image8.wmf" ContentType="image/x-wmf"/>
  <Override PartName="/ppt/media/image1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907588" cy="6858000"/>
  <p:notesSz cx="66595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6600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60560" cy="5317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marL="216000" indent="0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6"/>
          </p:nvPr>
        </p:nvSpPr>
        <p:spPr>
          <a:xfrm>
            <a:off x="3763800" y="-360"/>
            <a:ext cx="2859120" cy="5317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lstStyle>
            <a:lvl1pPr marL="216000" indent="0" algn="r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661680" y="758880"/>
            <a:ext cx="5375160" cy="3720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02880" y="4708080"/>
            <a:ext cx="4892760" cy="4403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7"/>
          </p:nvPr>
        </p:nvSpPr>
        <p:spPr>
          <a:xfrm>
            <a:off x="0" y="9339120"/>
            <a:ext cx="2860560" cy="5320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marL="216000" indent="0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8"/>
          </p:nvPr>
        </p:nvSpPr>
        <p:spPr>
          <a:xfrm>
            <a:off x="3763800" y="9339120"/>
            <a:ext cx="2859120" cy="5320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6E0EFA2D-6563-4E49-80F6-B9FF847B0613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662040" y="758880"/>
            <a:ext cx="5375160" cy="37209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02880" y="4708080"/>
            <a:ext cx="4892760" cy="4403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Chciałbym zaprezentować Państwu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najważniejsze tezy mojej pracy doktorskiej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Temat pracy brzmi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Algorytmy neuronowe i statystyczn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w wizualizacji danych wielowymiarowy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raca została wykonana w Katedrze Metod Komputerowych UM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od kierunkiem profesora Włodzisława Duch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662040" y="758880"/>
            <a:ext cx="5375160" cy="372096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02880" y="4708080"/>
            <a:ext cx="4892760" cy="4403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Samoorganizująca się sieć Kohonena jest siecią dwuwarstwową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w której warstwa wyjściow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jest siatką neuronów oddziałujących lateralni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W wyrażeniu ... mi jest wektorem wag neuronu "i"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a hci jest tzw. funkcją sąsiedztwa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dzięki której relacje bliskości danych są zachowane na mapi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662040" y="758880"/>
            <a:ext cx="5375160" cy="372096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02880" y="4708080"/>
            <a:ext cx="4892760" cy="4403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Do najważniejszych zalet tego modelu należy to, że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Dokonuje jednocześnie redukcji wymiarowości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oraz klasteryzacji danych wielowymiarowych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Daje możliwość zastosowania do dużych baz dany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lub danych w czasie ich napływan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Ograniczenia modelu SOM,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Zniekształcenie związane z niedopasowaniem kształtu map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do ogólnego kształtu danych, efekt „brzegowy”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Dyskretyzacja przestrzeni wyjściowej (siatka neuronów)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Efekt lokalnego powiększania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Klasteryzacja i klasyfikacja nie optymaln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Konieczność wyboru wielu parametrów uczenia sie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662040" y="758880"/>
            <a:ext cx="5375160" cy="372096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02880" y="4708080"/>
            <a:ext cx="4892760" cy="4403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rzejdźmy teraz do skalowania wielowymiaroweg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Główną ideą tej metody jest zminimalizowanie funkcji błęd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tzw. stresu, gdzie deltaij jest miarą odmienności obiektów i oraz  j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dij jest odległością w przestrzeni niskowymiarowej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W literaturze przedstawiono różne metody optymalizacj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zastosowane w tym celu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662040" y="758880"/>
            <a:ext cx="5375160" cy="37209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02880" y="4708080"/>
            <a:ext cx="4892760" cy="4403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Algorytm MDS w niniejszej pracy ulepszono w sposób następując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Ustalono pewną strategię wyboru konfiguracji początkowej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roces minimalizacji stresu został ulepszon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dzięki optymalizacji skoku wzdłuż gradientu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Stworzono możliwość dorzutowania nowych dany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662040" y="758880"/>
            <a:ext cx="5375160" cy="372096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02880" y="4708080"/>
            <a:ext cx="4892760" cy="4403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ptymalny skok dla metody największego spadku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piera się na aproksymacji funkcji S formą kwadratową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trzymujemy następujące wyrażenie, w którym można dokona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elu analitycznych uproszczeń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662040" y="758880"/>
            <a:ext cx="5375160" cy="372096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02880" y="4708080"/>
            <a:ext cx="4892760" cy="4403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orównano metodę największego spadku z optymalnym skokiem (OSD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z metodą sprzężonych gradientów (CO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oraz z tzw. rzutowaniem Sammon’a (SAM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Na pierwszym wykresie widzimy szybs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i bardziej regularne zbieganie się minimalizacji metodą OS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Drugi wykres przedstawia końcowe wartości stresu dla stu różnych pró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Widzimy niższe wartości średnią oraz minimalną dla OS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662040" y="758880"/>
            <a:ext cx="5375160" cy="372096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02880" y="4708080"/>
            <a:ext cx="4892760" cy="4403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Reasumując: zalety ulepszonej metody są następują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uwzględnianie krzywizny funkcji S() w punkcie Y(k)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rzy jednocześnie mniejszej kosztownoś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niż prawdziwa metoda drugiego rzędu (n.p. metoda Newton’a)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jest w sumie szybsza niż metoda gradientów sprzężonych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roces minimalizacji przebiega w sposób bardziej kontrolowany ni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metodą rzutowania Sammon’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Główną wadą jest jej liniowa zbieżność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Dołączona przez mnie generalizacja polega na minimalizacji nowego stresu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w którym występują odległości miedzy nowym punk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(lub nowymi punkta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a punktami wcześniej rzutowanymi tak zwanej baz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ostać stresu jest przedstawiona poniższym wzor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662040" y="758880"/>
            <a:ext cx="5375160" cy="372096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02880" y="4708080"/>
            <a:ext cx="4892760" cy="4403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Na podstawie przeprowadzonych badań można wnioskować, ż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MultiStart z minimalizacją gradientową jest zadowalającym rozwiązani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dla małych zbiorów (do 100 punktów)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osiada względną szybkość rzutowania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możliwość kontroli obszarów danych, które należy lepiej odwzorowywać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możliwość wizualizacji dużych zbiorów danych w celu ich eksploracj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(n.p. bazy tekstów) lub danych napływających w czas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(n.p. monitoring procesów przemysłowych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Wady zaproponowanego modelu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złożoność obliczeniowa rzędu </a:t>
            </a:r>
            <a:r>
              <a:rPr b="1" i="1" lang="pl-PL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i="1" lang="pl-PL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i="1" lang="pl-PL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 - liczba punktów)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liczne lokalne minima (czułość na warunki początkow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662040" y="758880"/>
            <a:ext cx="5375160" cy="372096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02880" y="4708080"/>
            <a:ext cx="4892760" cy="4403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Zaimplementowany interakcyjny program iMDS został zastosow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do wizualizacji danych psychometrycznych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Były to dane trzynasto-wymiarowe opisujące przypadki chorób psychiczny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Widzimy, że MDS pozwala na lepsze odseparowanie różnych kl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(Na przykład klasy ‘norma’ - granatowa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sychopatia’ - niebieska, turkusow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organika’ - purpurow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662040" y="758880"/>
            <a:ext cx="5375160" cy="372096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02880" y="4708080"/>
            <a:ext cx="4892760" cy="4403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Kolejnym zastosowaniem metod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jest zoomowanie w sąsiedztwi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wybranego pacjenta bazy psychometrycznej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Zachowano i rzutowa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k najbliższych sąsiadów w przestrzeni ce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dla k równego 500, 200, 50, 20, 10 i 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Końcowe wartości stresu są wskaźnikiem jakości odwzorowan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662040" y="758880"/>
            <a:ext cx="5375160" cy="372096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77520" y="4708080"/>
            <a:ext cx="5118120" cy="4403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Zasadnicze cele mojej pracy zawierają się w następujących punktach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rzedstawienie przeglądu istniejących metod wizualizacyjnyc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dla danych wielowymiarowy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orównanie dwóch wybranych metod: skalowania wielowymiarowego (MD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i samoorganizujących się map Kohonena (SO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z punktu widzenia zachowania topografii dany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Interakcyjna eksploracja danych medycznych oraz wizualizacj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granic decyzji klasyfikatorów jako narzędzie wspomagające diagnoz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662040" y="758880"/>
            <a:ext cx="5375160" cy="372096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0720" y="4708080"/>
            <a:ext cx="5872320" cy="4403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Ostatnim zastosowaniem j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wizualizacja granic decyzji sieci neuronowej IncNe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Generowano przypadkowe punkty według rozkładu Gausowskie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w sąsiedztwie interesującego nas punktu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sklasyfikowano i dorzutowano do obrazu najbliższych sąsiadów z baz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Można skorelować pozycję oraz ostrość granicy decyzj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z prawdopodobieństwami podanymi przez klasyfikator IncNe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Dorzutowane punkty są w obszarze większego zagęszczen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Tam gdzie klasyfikator podał duże prawdopodobieństwo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klasy są dobrze odseparowan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kiedy prawdopodobieństwa są mniejsze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klasy są przemiesza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662040" y="758880"/>
            <a:ext cx="5375160" cy="372096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01560" y="4708080"/>
            <a:ext cx="5570640" cy="4403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Konkluzje moich badań są następują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raktyczne porównanie algorytmów SOM i MDS pozwala wnioskować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iż MDS jest lepszym narzędziem do odwzorowywania struktur danyc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więc lepiej się nadaje do ich interakcyjnej eksploracj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Skalowanie wielowymiarowe zostało ulepszone i dostosowan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do interakcyjnej eksploracji wielowymiarowych dany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omyślnie zastosowano metodę MDS do wizualizacji wielowymiarowyc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danych medycznych oraz do wizualizacji granic decyzji klasyfikatora.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W dalszej perspektywie można zaproponować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badania nad minimalizacją stresu metodą gradientową z MultiStart’e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co jest uzasadnione w przypadku małych zbiorów danych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Dla większych zbiorów, należy poszukiwać tańszych metod globalny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rogram iMDS przedstawiający 2-wymiarową konfigurację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jest przygotowaniem do wizualizacji w 3 wymiara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Można również myśleć o interaktywnej wizualizacj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uwzględniającej informację klasow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i o wizualizacji lokalnych poziomów zniekształceń relacji sąsiedztwa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np. za pomocą Minimalnego Drzewa Rozpinającego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Dziękuję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662040" y="758880"/>
            <a:ext cx="5375160" cy="372096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02880" y="4708080"/>
            <a:ext cx="4892760" cy="4403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łówne tezy mojej rozprawy są następują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mplementacja polepszonego algorytmu M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zwala na włączenie go w narzędzie interakcyjnej eksploracji dany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raz wizualizacji granic decyzji wybranego klasyfikator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tody ekstrakcji cech mogą z sukcesem być zastosowan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o wizualizacji danych wielowymiarowy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kalowanie wielowymiarowe jest lepiej przystosowan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o odwzorowywania topografii danych niż mapy samoorganizujące się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662040" y="758880"/>
            <a:ext cx="5375160" cy="372096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02880" y="4708080"/>
            <a:ext cx="4892760" cy="4403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Realizacja przedstawionych celów prac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rzebiegała według następującego planu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unkt pierwszy: Cele wizualizacji danych wielowymiarowy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rzegląd metod pozwalających na wizualizacj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Samoorganizujące się mapy Kohonena (SO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Metody skalowania wielowymiarowego (MD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Zastosowania zoptymalizowanej metody M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Konkluzje i perspektyw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662040" y="758880"/>
            <a:ext cx="5375160" cy="372096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01200" y="4708080"/>
            <a:ext cx="5194440" cy="4403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Na wstępie rozprawy omówiłem cele wizualizacji danych wielowymiarowy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Dzięki wizualizacji, możliwe jest poznanie danyc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oprzez określenie ich globalnej struktury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wykrywanie obecności klasterów i danych odstający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Wizualizacja dotyczy danych numerycznych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(wystarczy możliwość określenia podobieństw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Sama wizualizacja polega na przedstawieniu wykresów punktowyc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w których istotne są relacje sąsiedztw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662040" y="758880"/>
            <a:ext cx="5375160" cy="372096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02880" y="4708080"/>
            <a:ext cx="4892760" cy="4403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W dalszej części pracy przedstawion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metody wizualizacji danych wielowymiarowyc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odzielone na liniowe oraz nieliniow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Celem tego przeglądu było umożliwienie wyboru metod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najbardziej odpowiedniej do wizualizacji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rezentowanych w pracy dany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Analiza Czynników Głównych jest metodą statystyczną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która istnieje również w postaci sieci neuronowej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opartej na regule Hebb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Wyniki zastosowania każdej z metod różnią się rodzaje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zachowanej informacj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662040" y="758880"/>
            <a:ext cx="5375160" cy="37209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02880" y="4708080"/>
            <a:ext cx="4892760" cy="4403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kalowanie wielowymiarowe pozwala zachować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 uczytelnić odległości lub dane odmienności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wie kolejne metody zaprezentowane w tabeli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ą wersjami MDS w postaci sieci neuronowej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py samoorganizujące się są skonstruowane w taki sposób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by zachować relacje sąsiedztw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Ze względu na zachowywane informacje do dalszych badań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ytypowano właśnie metody MDS i S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662040" y="758880"/>
            <a:ext cx="5375160" cy="372096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02880" y="4708080"/>
            <a:ext cx="4892760" cy="4403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adano również metodę liniową Analizę Składników główny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nieważ została ona wybrana jako inicjalizacja dla metod nieliniowy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chnika rozkładu na wartości osobliwe okazała się lepsz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 została wykorzystana w dalszej części prac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662040" y="758880"/>
            <a:ext cx="5375160" cy="372096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02880" y="4708080"/>
            <a:ext cx="4892760" cy="4403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Rzutowanie liniowe nie pozwala na optymalną wizualizację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zbiorów o nieliniowej strukturz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Na przykład sympleks w 5-ciu wymiarach zobrazowany tą metod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ma 3 wierzchołki zgrupowan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natomiast przy zastosowaniu metody nieliniowej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wszystkie sześć wierzchołków jest odseparowa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DB3328-DEAC-44D4-B98F-BB9A3273A1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91627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12920" y="3995280"/>
            <a:ext cx="91627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7F0149-15DB-48BB-9F84-402380DB96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4471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08040" y="1447920"/>
            <a:ext cx="4471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12920" y="3995280"/>
            <a:ext cx="4471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08040" y="3995280"/>
            <a:ext cx="4471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9C1979-8CE9-4A34-BFF0-B2ED3BE120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2950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11080" y="1447920"/>
            <a:ext cx="2950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09240" y="1447920"/>
            <a:ext cx="2950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12920" y="3995280"/>
            <a:ext cx="2950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11080" y="3995280"/>
            <a:ext cx="2950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609240" y="3995280"/>
            <a:ext cx="2950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7C67C4-0215-4B0F-BC21-FB827393C8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AA3583-2ED7-4D02-A903-7A99E1D56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12920" y="1447920"/>
            <a:ext cx="9162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9C00F7-B61E-46FB-80EE-B5C82E192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9162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64547A-D0FF-4822-8E81-F7E128D00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44712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08040" y="1447920"/>
            <a:ext cx="44712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94F1F8-0F82-40FF-91D9-D999A979D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0A768E-B264-4526-940C-794B480FB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12560" y="228240"/>
            <a:ext cx="90802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735752-82CD-4492-AA41-02E8E7E7E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4471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08040" y="1447920"/>
            <a:ext cx="44712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12920" y="3995280"/>
            <a:ext cx="4471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5D1804-7A22-443A-99B2-603C90A6C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12920" y="1447920"/>
            <a:ext cx="9162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B08440-D190-4DAA-8F75-F9E66E1140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44712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08040" y="1447920"/>
            <a:ext cx="4471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108040" y="3995280"/>
            <a:ext cx="4471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1FE0FD-9810-461A-B0A1-E93FB38A5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4471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08040" y="1447920"/>
            <a:ext cx="4471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12920" y="3995280"/>
            <a:ext cx="91627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751F57-550C-4A62-9D97-999F8E3A5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91627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12920" y="3995280"/>
            <a:ext cx="91627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42ED52-6116-4341-8CC0-7F65E280B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4471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108040" y="1447920"/>
            <a:ext cx="4471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12920" y="3995280"/>
            <a:ext cx="4471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108040" y="3995280"/>
            <a:ext cx="4471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95A228-8179-4235-B11D-3F7569A6C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2950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11080" y="1447920"/>
            <a:ext cx="2950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09240" y="1447920"/>
            <a:ext cx="2950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12920" y="3995280"/>
            <a:ext cx="2950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11080" y="3995280"/>
            <a:ext cx="2950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609240" y="3995280"/>
            <a:ext cx="2950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E05DF4-4B66-4C14-891F-C2C694D0A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9162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07D930-225A-4820-86F7-FD795D4E04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44712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8040" y="1447920"/>
            <a:ext cx="44712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2DF2A4-0E0B-4530-ABF1-2C15CC9DFF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866769-2729-4547-AFB0-36DE12F697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12560" y="228240"/>
            <a:ext cx="90802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0053B9-3E3F-4465-B054-A11E5D3F05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4471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08040" y="1447920"/>
            <a:ext cx="44712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12920" y="3995280"/>
            <a:ext cx="4471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F31123-0269-468C-972E-2FBCE89009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44712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08040" y="1447920"/>
            <a:ext cx="4471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08040" y="3995280"/>
            <a:ext cx="4471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76EFF5-ED34-4E10-9265-466E7705D9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4471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08040" y="1447920"/>
            <a:ext cx="4471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12920" y="3995280"/>
            <a:ext cx="91627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3F2802-A6EF-413F-9FF8-75C2EC2E0A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632040" y="0"/>
            <a:ext cx="6274080" cy="152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9575640" y="0"/>
            <a:ext cx="0" cy="2362320"/>
          </a:xfrm>
          <a:prstGeom prst="line">
            <a:avLst/>
          </a:prstGeom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164880" y="1219320"/>
            <a:ext cx="1933560" cy="2324160"/>
            <a:chOff x="164880" y="1219320"/>
            <a:chExt cx="1933560" cy="2324160"/>
          </a:xfrm>
        </p:grpSpPr>
        <p:sp>
          <p:nvSpPr>
            <p:cNvPr id="3" name=""/>
            <p:cNvSpPr/>
            <p:nvPr/>
          </p:nvSpPr>
          <p:spPr>
            <a:xfrm flipH="1">
              <a:off x="164880" y="1316880"/>
              <a:ext cx="1933560" cy="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75480" y="1222560"/>
              <a:ext cx="0" cy="23209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71080" y="1219320"/>
              <a:ext cx="208800" cy="192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9" y="3"/>
                  </a:moveTo>
                  <a:arcTo wR="10800" hR="10800" stAng="-5476576" swAng="1620404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9" y="3"/>
                  </a:moveTo>
                  <a:arcTo wR="10800" hR="10800" stAng="-5476576" swAng="16204040"/>
                </a:path>
              </a:pathLst>
            </a:custGeom>
            <a:noFill/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12920" y="1447920"/>
            <a:ext cx="9162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0920" indent="-250920">
              <a:spcBef>
                <a:spcPts val="1400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62040" indent="-220680">
              <a:spcBef>
                <a:spcPts val="14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081080" indent="-228600">
              <a:spcBef>
                <a:spcPts val="1400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3" marL="1500120" indent="-228600">
              <a:spcBef>
                <a:spcPts val="1400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4" marL="1919160" indent="-228600">
              <a:spcBef>
                <a:spcPts val="1400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5" marL="1919160" indent="-228600">
              <a:spcBef>
                <a:spcPts val="14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6" marL="1919160" indent="-228600">
              <a:spcBef>
                <a:spcPts val="14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1"/>
          </p:nvPr>
        </p:nvSpPr>
        <p:spPr>
          <a:xfrm>
            <a:off x="990360" y="6400440"/>
            <a:ext cx="7924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2"/>
          </p:nvPr>
        </p:nvSpPr>
        <p:spPr>
          <a:xfrm>
            <a:off x="8915400" y="6400440"/>
            <a:ext cx="6602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CF1DE-53C5-4C4F-9572-6C65C6B1FBA5}" type="slidenum">
              <a:rPr b="1" lang="en-US" sz="16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632040" y="0"/>
            <a:ext cx="6274080" cy="152280"/>
          </a:xfrm>
          <a:prstGeom prst="rect">
            <a:avLst/>
          </a:prstGeom>
          <a:solidFill>
            <a:srgbClr val="cfdb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575640" y="0"/>
            <a:ext cx="0" cy="2362320"/>
          </a:xfrm>
          <a:prstGeom prst="line">
            <a:avLst/>
          </a:prstGeom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70120" y="887400"/>
            <a:ext cx="0" cy="2846520"/>
          </a:xfrm>
          <a:prstGeom prst="line">
            <a:avLst/>
          </a:prstGeom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H="1" flipV="1">
            <a:off x="4680" y="3050640"/>
            <a:ext cx="5523120" cy="1800"/>
          </a:xfrm>
          <a:prstGeom prst="line">
            <a:avLst/>
          </a:prstGeom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H="1" flipV="1">
            <a:off x="660240" y="1219320"/>
            <a:ext cx="6554880" cy="1440"/>
          </a:xfrm>
          <a:prstGeom prst="line">
            <a:avLst/>
          </a:prstGeom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 rot="16200000">
            <a:off x="752760" y="1056600"/>
            <a:ext cx="247320" cy="26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559" y="3"/>
                </a:moveTo>
                <a:arcTo wR="10800" hR="10800" stAng="-5476576" swAng="16204040"/>
                <a:lnTo>
                  <a:pt x="10800" y="10800"/>
                </a:lnTo>
                <a:close/>
              </a:path>
              <a:path fill="none" w="21600" h="21600">
                <a:moveTo>
                  <a:pt x="10559" y="3"/>
                </a:moveTo>
                <a:arcTo wR="10800" hR="10800" stAng="-5476576" swAng="16204040"/>
              </a:path>
            </a:pathLst>
          </a:custGeom>
          <a:noFill/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2971800" y="3809880"/>
            <a:ext cx="6548040" cy="2876400"/>
            <a:chOff x="2971800" y="3809880"/>
            <a:chExt cx="6548040" cy="2876400"/>
          </a:xfrm>
        </p:grpSpPr>
        <p:sp>
          <p:nvSpPr>
            <p:cNvPr id="53" name=""/>
            <p:cNvSpPr/>
            <p:nvPr/>
          </p:nvSpPr>
          <p:spPr>
            <a:xfrm>
              <a:off x="2971800" y="6175080"/>
              <a:ext cx="6548040" cy="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9320400" y="3809880"/>
              <a:ext cx="0" cy="287640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rot="5400000">
              <a:off x="9200880" y="6013440"/>
              <a:ext cx="247320" cy="268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9" y="3"/>
                  </a:moveTo>
                  <a:arcTo wR="10800" hR="10800" stAng="-5476576" swAng="1620404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9" y="3"/>
                  </a:moveTo>
                  <a:arcTo wR="10800" hR="10800" stAng="-5476576" swAng="16204040"/>
                </a:path>
              </a:pathLst>
            </a:custGeom>
            <a:noFill/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72800" y="1371240"/>
            <a:ext cx="84200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3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4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5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2DA43-57DA-4B56-AA46-5BA8DA079178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44136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852480" algn="ctr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27152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69056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69056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69056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wmf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72800" y="1371240"/>
            <a:ext cx="84200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Algorytmy neuronowe i statystyczne 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w wizualizacji danych wielowymiarowych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907560" y="3733920"/>
            <a:ext cx="82551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4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40458c"/>
                </a:solidFill>
                <a:latin typeface="Tahoma"/>
              </a:rPr>
              <a:t>Antoine Nau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 algn="r">
              <a:lnSpc>
                <a:spcPct val="16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romotor: prof. W. Duch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Katedra Metod Komputerowych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Uniwersytet Mikołaja Kopernika w Toruniu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106" name="UMK" descr=""/>
          <p:cNvPicPr/>
          <p:nvPr/>
        </p:nvPicPr>
        <p:blipFill>
          <a:blip r:embed="rId1"/>
          <a:stretch/>
        </p:blipFill>
        <p:spPr>
          <a:xfrm>
            <a:off x="1155600" y="3733920"/>
            <a:ext cx="1403280" cy="13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42680" y="3045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3.1. Samoorganizująca się sieć Kohonena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9162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09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eć dwuwarstwowa, uczenie konkurencyjne (zwycięzca bierze większość)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577800" y="1752480"/>
          <a:ext cx="4044960" cy="47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7800" y="1752480"/>
                    <a:ext cx="404496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5602320" y="1752480"/>
          <a:ext cx="3738600" cy="470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02320" y="1752480"/>
                    <a:ext cx="3738600" cy="47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1" name="kohopol" descr=""/>
          <p:cNvPicPr/>
          <p:nvPr/>
        </p:nvPicPr>
        <p:blipFill>
          <a:blip r:embed="rId5"/>
          <a:stretch/>
        </p:blipFill>
        <p:spPr>
          <a:xfrm>
            <a:off x="825480" y="2227320"/>
            <a:ext cx="7677000" cy="4630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EF901C-1750-4A44-B637-7A31643FDFC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3.2. Samoorganizująca się sieć Kohonena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9162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0880" indent="-250560">
              <a:spcBef>
                <a:spcPts val="1400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Zalety modelu SOM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2114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Dokonuje jednocześnie redukcji wymiarowości oraz klasteryzacji danych wielowymiarowych,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2114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Możliwość zastosowania do dużych baz danych lub danych w czasie ich napływania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80880" indent="-250560">
              <a:spcBef>
                <a:spcPts val="1400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Ograniczenia modelu SOM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2114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Zniekształcenie związane z niedopasowaniem kształtu mapy do ogólnego kształtu danych, efekt „brzegowy”,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2114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Dyskretyzacja przestrzeni wyjściowej (siatka neuronów),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2114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Efekt lokalnego powiększania,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2114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Klasteryzacja i klasyfikacja nie optymalne,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2114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Konieczność wyboru wielu parametrów uczenia sieci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9200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08FEF-E5AA-40AA-980D-F07A542C1A7E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4.1. Skalowanie wielowymiarowe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9162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66240" indent="-2880">
              <a:spcBef>
                <a:spcPts val="1400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pl-PL" sz="2800" spc="-1" strike="noStrike">
                <a:solidFill>
                  <a:srgbClr val="40458c"/>
                </a:solidFill>
                <a:latin typeface="Tahoma"/>
              </a:rPr>
              <a:t>Ścisła definicja skalowania wielowymiarowego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4233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Dla zbioru </a:t>
            </a:r>
            <a:r>
              <a:rPr b="0" i="1" lang="pl-PL" sz="2000" spc="-1" strike="noStrike">
                <a:solidFill>
                  <a:srgbClr val="40458c"/>
                </a:solidFill>
                <a:latin typeface="Tahoma"/>
              </a:rPr>
              <a:t>N</a:t>
            </a: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 obiektów, mamy pomiary {</a:t>
            </a:r>
            <a:r>
              <a:rPr b="0" lang="pl-PL" sz="2400" spc="-1" strike="noStrike">
                <a:solidFill>
                  <a:srgbClr val="40458c"/>
                </a:solidFill>
                <a:latin typeface="Symbol"/>
                <a:ea typeface="Symbol"/>
              </a:rPr>
              <a:t></a:t>
            </a:r>
            <a:r>
              <a:rPr b="0" lang="pl-PL" sz="2400" spc="-1" strike="noStrike" baseline="-25000">
                <a:solidFill>
                  <a:srgbClr val="40458c"/>
                </a:solidFill>
                <a:latin typeface="Tahoma"/>
              </a:rPr>
              <a:t>ij</a:t>
            </a: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} odmienności (ang. dissimilarity) dla wszystkich par obiektów (i,j)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4233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Szukamy niskowymiarowej przestrzeni M, w której jeden punkt </a:t>
            </a:r>
            <a:r>
              <a:rPr b="1" lang="pl-PL" sz="2000" spc="-1" strike="noStrike">
                <a:solidFill>
                  <a:srgbClr val="40458c"/>
                </a:solidFill>
                <a:latin typeface="Tahoma"/>
              </a:rPr>
              <a:t>y</a:t>
            </a: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 reprezentuje jeden obiekt </a:t>
            </a:r>
            <a:r>
              <a:rPr b="1" lang="pl-PL" sz="2000" spc="-1" strike="noStrike">
                <a:solidFill>
                  <a:srgbClr val="40458c"/>
                </a:solidFill>
                <a:latin typeface="Tahoma"/>
              </a:rPr>
              <a:t>x</a:t>
            </a: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 w taki sposób, by odległości {d</a:t>
            </a:r>
            <a:r>
              <a:rPr b="0" lang="pl-PL" sz="2400" spc="-1" strike="noStrike" baseline="-25000">
                <a:solidFill>
                  <a:srgbClr val="40458c"/>
                </a:solidFill>
                <a:latin typeface="Tahoma"/>
              </a:rPr>
              <a:t>ij</a:t>
            </a: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} między punktami {</a:t>
            </a:r>
            <a:r>
              <a:rPr b="1" lang="pl-PL" sz="2000" spc="-1" strike="noStrike">
                <a:solidFill>
                  <a:srgbClr val="40458c"/>
                </a:solidFill>
                <a:latin typeface="Tahoma"/>
              </a:rPr>
              <a:t>y</a:t>
            </a: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} były jak najlepiej dopasowane do odmienności {</a:t>
            </a:r>
            <a:r>
              <a:rPr b="0" lang="pl-PL" sz="2400" spc="-1" strike="noStrike">
                <a:solidFill>
                  <a:srgbClr val="40458c"/>
                </a:solidFill>
                <a:latin typeface="Symbol"/>
                <a:ea typeface="Symbol"/>
              </a:rPr>
              <a:t></a:t>
            </a:r>
            <a:r>
              <a:rPr b="0" lang="pl-PL" sz="2400" spc="-1" strike="noStrike" baseline="-25000">
                <a:solidFill>
                  <a:srgbClr val="40458c"/>
                </a:solidFill>
                <a:latin typeface="Tahoma"/>
              </a:rPr>
              <a:t>ij</a:t>
            </a: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}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66240" indent="-2880">
              <a:spcBef>
                <a:spcPts val="1400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pl-PL" sz="2800" spc="-1" strike="noStrike">
                <a:solidFill>
                  <a:srgbClr val="40458c"/>
                </a:solidFill>
                <a:latin typeface="Tahoma"/>
              </a:rPr>
              <a:t>Skalowanie metodą najmniejszych kwadratów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833040" indent="-2214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Minimalizacja funkcji błędu (badness-of-fit), tzw. stresu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42336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42336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833040" indent="-2214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Metody optymalizacji: lokalne (coordinate or gradient descent), globalne (majorizing function, wygładzanie stresu) lub inferencyjne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981080" y="4648320"/>
          <a:ext cx="5553360" cy="107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4648320"/>
                    <a:ext cx="5553360" cy="107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FA9C4A-D336-40CD-901D-903D52E8C308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4.2. Skalowanie wielowymiarowe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9162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50920">
              <a:spcBef>
                <a:spcPts val="1400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40458c"/>
                </a:solidFill>
                <a:latin typeface="Tahoma"/>
              </a:rPr>
              <a:t>Ulepszenia wniesione do algorytmu MDS 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01640" indent="-220680">
              <a:spcBef>
                <a:spcPts val="9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Wybór początkowej konfiguracji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7324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PCA + MultiStart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01640" indent="-220680">
              <a:spcBef>
                <a:spcPts val="9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Przyspieszenie oraz ulepszenie procesu zbiegania się minimalizacji stresu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73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optymalizacja skoku wzdłuż gradientu w metodzi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73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największego spadku uwzględniając drugie pochodn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01640" indent="-220680">
              <a:spcBef>
                <a:spcPts val="9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Generalizacja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73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możliwość dorzutowania nowych danych przez MD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73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do istniejącego rzutowania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002E3F-857D-4EB9-8F6A-3E5FED034367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4.3. Skalowanie wielowymiarowe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9162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662040" indent="-220680">
              <a:spcBef>
                <a:spcPts val="9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Optymalny skok dla metody największego spadku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2890800" y="1941480"/>
          <a:ext cx="4041720" cy="53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0800" y="1941480"/>
                    <a:ext cx="40417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" name=""/>
          <p:cNvGraphicFramePr/>
          <p:nvPr/>
        </p:nvGraphicFramePr>
        <p:xfrm>
          <a:off x="407880" y="2895480"/>
          <a:ext cx="9498240" cy="766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7880" y="2895480"/>
                    <a:ext cx="9498240" cy="7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1198440" y="3706920"/>
          <a:ext cx="6853320" cy="828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98440" y="3706920"/>
                    <a:ext cx="685332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" name=""/>
          <p:cNvGraphicFramePr/>
          <p:nvPr/>
        </p:nvGraphicFramePr>
        <p:xfrm>
          <a:off x="2800440" y="4648320"/>
          <a:ext cx="3801960" cy="1384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800440" y="4648320"/>
                    <a:ext cx="3801960" cy="13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1022760" y="2514600"/>
            <a:ext cx="747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Aproksymacja funkcji </a:t>
            </a:r>
            <a:r>
              <a:rPr b="0" i="1" lang="pl-PL" sz="2000" spc="-1" strike="noStrike">
                <a:solidFill>
                  <a:srgbClr val="40458c"/>
                </a:solidFill>
                <a:latin typeface="Tahoma"/>
              </a:rPr>
              <a:t>S(</a:t>
            </a:r>
            <a:r>
              <a:rPr b="0" i="1" lang="pl-PL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·</a:t>
            </a:r>
            <a:r>
              <a:rPr b="0" i="1" lang="pl-PL" sz="2000" spc="-1" strike="noStrike">
                <a:solidFill>
                  <a:srgbClr val="40458c"/>
                </a:solidFill>
                <a:latin typeface="Tahoma"/>
              </a:rPr>
              <a:t>)</a:t>
            </a: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 formą kwadratową (szereg Taylora):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E0318E-5F5C-48A0-B225-FBA537529AFB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4.4. Skalowanie wielowymiarowe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9162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662040" indent="-220680">
              <a:spcBef>
                <a:spcPts val="9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orównanie procesu minimalizacji z innymi metodami 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153" name="conv" descr=""/>
          <p:cNvPicPr/>
          <p:nvPr/>
        </p:nvPicPr>
        <p:blipFill>
          <a:blip r:embed="rId1"/>
          <a:stretch/>
        </p:blipFill>
        <p:spPr>
          <a:xfrm>
            <a:off x="247680" y="1828800"/>
            <a:ext cx="9327960" cy="4608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AC9FA0-D05C-406B-9E9C-14CE9CB0A380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4.5. Skalowanie wielowymiarowe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9162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50920">
              <a:spcBef>
                <a:spcPts val="1199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Zalety metody największego spadku z optymalnym skokiem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20680" indent="-228600"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uwzględnianie krzywizny funkcji </a:t>
            </a:r>
            <a:r>
              <a:rPr b="0" i="1" lang="pl-PL" sz="1800" spc="-1" strike="noStrike">
                <a:solidFill>
                  <a:srgbClr val="40458c"/>
                </a:solidFill>
                <a:latin typeface="Tahoma"/>
              </a:rPr>
              <a:t>S()</a:t>
            </a: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 w punkcie </a:t>
            </a:r>
            <a:r>
              <a:rPr b="0" i="1" lang="pl-PL" sz="1800" spc="-1" strike="noStrike">
                <a:solidFill>
                  <a:srgbClr val="40458c"/>
                </a:solidFill>
                <a:latin typeface="Tahoma"/>
              </a:rPr>
              <a:t>Y</a:t>
            </a:r>
            <a:r>
              <a:rPr b="0" i="1" lang="pl-PL" sz="1800" spc="-1" strike="noStrike" baseline="30000">
                <a:solidFill>
                  <a:srgbClr val="40458c"/>
                </a:solidFill>
                <a:latin typeface="Tahoma"/>
              </a:rPr>
              <a:t>(k)</a:t>
            </a:r>
            <a:r>
              <a:rPr b="0" i="1" lang="pl-PL" sz="1800" spc="-1" strike="noStrike">
                <a:solidFill>
                  <a:srgbClr val="40458c"/>
                </a:solidFill>
                <a:latin typeface="Tahoma"/>
              </a:rPr>
              <a:t>,</a:t>
            </a: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 przy jednocześnie mniejszej kosztowności niż prawdziwa metoda drugiego rzędu          (n.p. metoda Newton’a),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20680" indent="-228600"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jest w sumie szybsza niż metoda gradientów sprzężonych,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20680" indent="-228600"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proces minimalizacji przebiega w sposób bardziej kontrolowany niż metodą rzutowania Sammon’a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290520" indent="-250920">
              <a:spcBef>
                <a:spcPts val="1199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Wady metody największego spadku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20680" indent="-228600"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liniowa zbieżność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290520" indent="-250920">
              <a:lnSpc>
                <a:spcPct val="80000"/>
              </a:lnSpc>
              <a:spcBef>
                <a:spcPts val="1199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Dołączenie generalizacji do MDSu: „względny” MD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20680" indent="-228600"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N</a:t>
            </a:r>
            <a:r>
              <a:rPr b="0" lang="pl-PL" sz="1800" spc="-1" strike="noStrike" baseline="-10000">
                <a:solidFill>
                  <a:srgbClr val="40458c"/>
                </a:solidFill>
                <a:latin typeface="Tahoma"/>
              </a:rPr>
              <a:t>b </a:t>
            </a: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– liczba punktów wcześniej rzutowanych     (b – baza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20680" indent="-228600">
              <a:lnSpc>
                <a:spcPct val="7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N</a:t>
            </a:r>
            <a:r>
              <a:rPr b="0" lang="pl-PL" sz="1800" spc="-1" strike="noStrike" baseline="-10000">
                <a:solidFill>
                  <a:srgbClr val="40458c"/>
                </a:solidFill>
                <a:latin typeface="Tahoma"/>
              </a:rPr>
              <a:t>n </a:t>
            </a: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– liczba nowych punktów do dorzutowania  (n – nowe dane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395280" y="5486400"/>
          <a:ext cx="9180360" cy="101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5486400"/>
                    <a:ext cx="9180360" cy="10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844834-2729-417C-956A-6A54363D0B12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4.6. Skalowanie wielowymiarowe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9162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0880" indent="-250560">
              <a:lnSpc>
                <a:spcPct val="90000"/>
              </a:lnSpc>
              <a:spcBef>
                <a:spcPts val="1400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40458c"/>
                </a:solidFill>
                <a:latin typeface="Tahoma"/>
              </a:rPr>
              <a:t>Zalety zaproponowanego modelu 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92000" indent="-220320">
              <a:lnSpc>
                <a:spcPct val="90000"/>
              </a:lnSpc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MultiStart z minimalizacją gradientową jest zadowalającym rozwiązaniem dla małych zbiorów (do 100 punktów),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92000" indent="-220320">
              <a:lnSpc>
                <a:spcPct val="90000"/>
              </a:lnSpc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względna szybkość rzutowania,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92000" indent="-220320">
              <a:lnSpc>
                <a:spcPct val="90000"/>
              </a:lnSpc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możliwość kontroli obszarów danych, które należy lepiej odwzorowywać,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92000" indent="-220320">
              <a:lnSpc>
                <a:spcPct val="90000"/>
              </a:lnSpc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możliwość wizualizacji dużych zbiorów danych w celu ich eksploracji (n.p. bazy tekstów) lub danych napływających w czasie (n.p. monitoring procesów przemysłowych)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80880" indent="-250560">
              <a:lnSpc>
                <a:spcPct val="90000"/>
              </a:lnSpc>
              <a:spcBef>
                <a:spcPts val="1400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40458c"/>
                </a:solidFill>
                <a:latin typeface="Tahoma"/>
              </a:rPr>
              <a:t>Wady zaproponowanego modelu 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92000" indent="-220320">
              <a:lnSpc>
                <a:spcPct val="90000"/>
              </a:lnSpc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złożoność obliczeniowa rzędu </a:t>
            </a:r>
            <a:r>
              <a:rPr b="0" i="1" lang="pl-PL" sz="2000" spc="-1" strike="noStrike">
                <a:solidFill>
                  <a:srgbClr val="40458c"/>
                </a:solidFill>
                <a:latin typeface="Tahoma"/>
              </a:rPr>
              <a:t>N</a:t>
            </a:r>
            <a:r>
              <a:rPr b="0" i="1" lang="pl-PL" sz="2000" spc="-1" strike="noStrike" baseline="30000">
                <a:solidFill>
                  <a:srgbClr val="40458c"/>
                </a:solidFill>
                <a:latin typeface="Tahoma"/>
              </a:rPr>
              <a:t>2</a:t>
            </a: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 (</a:t>
            </a:r>
            <a:r>
              <a:rPr b="0" i="1" lang="pl-PL" sz="2000" spc="-1" strike="noStrike">
                <a:solidFill>
                  <a:srgbClr val="40458c"/>
                </a:solidFill>
                <a:latin typeface="Tahoma"/>
              </a:rPr>
              <a:t>N</a:t>
            </a: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 - liczba punktów),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92000" indent="-220320">
              <a:lnSpc>
                <a:spcPct val="90000"/>
              </a:lnSpc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liczne lokalne minima (czułość na warunki początkowe)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920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EEDA11-757B-495F-AF6F-C5D302C10FB4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5.1. Zastosowania zoptymalizowanej metody MDS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84280" y="1519200"/>
            <a:ext cx="882000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lvl="1" marL="6418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40458c"/>
                </a:solidFill>
                <a:uFillTx/>
                <a:latin typeface="Tahoma"/>
              </a:rPr>
              <a:t>Program </a:t>
            </a:r>
            <a:r>
              <a:rPr b="1" lang="pl-PL" sz="1800" spc="-1" strike="noStrike" u="sng">
                <a:solidFill>
                  <a:srgbClr val="40458c"/>
                </a:solidFill>
                <a:uFillTx/>
                <a:latin typeface="Tahoma"/>
              </a:rPr>
              <a:t>iMDS</a:t>
            </a:r>
            <a:r>
              <a:rPr b="0" lang="pl-PL" sz="1800" spc="-1" strike="noStrike" u="sng">
                <a:solidFill>
                  <a:srgbClr val="40458c"/>
                </a:solidFill>
                <a:uFillTx/>
                <a:latin typeface="Tahoma"/>
              </a:rPr>
              <a:t> zaimplementowany w śr Windows został zastosowany do: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243360" indent="-243360">
              <a:lnSpc>
                <a:spcPct val="90000"/>
              </a:lnSpc>
              <a:spcBef>
                <a:spcPts val="1199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wizualizacji danych psychometrycznych</a:t>
            </a: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(test MMPI)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41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40458c"/>
                </a:solidFill>
                <a:latin typeface="Tahoma"/>
              </a:rPr>
              <a:t>550 pytań </a:t>
            </a:r>
            <a:r>
              <a:rPr b="0" lang="pl-PL" sz="1600" spc="-1" strike="noStrike">
                <a:solidFill>
                  <a:srgbClr val="40458c"/>
                </a:solidFill>
                <a:latin typeface="Symbol"/>
                <a:ea typeface="Symbol"/>
              </a:rPr>
              <a:t></a:t>
            </a:r>
            <a:r>
              <a:rPr b="0" lang="pl-PL" sz="1600" spc="-1" strike="noStrike">
                <a:solidFill>
                  <a:srgbClr val="40458c"/>
                </a:solidFill>
                <a:latin typeface="Tahoma"/>
              </a:rPr>
              <a:t> 13 skal (20-120), 20 klas nozologicznych (kobiety/mężczyźni)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24336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4336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4336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4336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4336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43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243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wizualizacja przez PCA</a:t>
            </a: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 wizualizacja przez MD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24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S</a:t>
            </a:r>
            <a:r>
              <a:rPr b="0" lang="pl-PL" sz="1800" spc="-1" strike="noStrike" baseline="-10000">
                <a:solidFill>
                  <a:srgbClr val="40458c"/>
                </a:solidFill>
                <a:latin typeface="Tahoma"/>
              </a:rPr>
              <a:t>1</a:t>
            </a: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 = 0.065</a:t>
            </a: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S</a:t>
            </a:r>
            <a:r>
              <a:rPr b="0" lang="pl-PL" sz="1800" spc="-1" strike="noStrike" baseline="-10000">
                <a:solidFill>
                  <a:srgbClr val="40458c"/>
                </a:solidFill>
                <a:latin typeface="Tahoma"/>
              </a:rPr>
              <a:t>1</a:t>
            </a: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 = 0.021 </a:t>
            </a: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(PCA init., 142 iteracji)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162" name="allwoPCA" descr=""/>
          <p:cNvPicPr/>
          <p:nvPr/>
        </p:nvPicPr>
        <p:blipFill>
          <a:blip r:embed="rId1"/>
          <a:stretch/>
        </p:blipFill>
        <p:spPr>
          <a:xfrm>
            <a:off x="660240" y="2590920"/>
            <a:ext cx="4292640" cy="3170160"/>
          </a:xfrm>
          <a:prstGeom prst="rect">
            <a:avLst/>
          </a:prstGeom>
          <a:ln w="0">
            <a:noFill/>
          </a:ln>
        </p:spPr>
      </p:pic>
      <p:pic>
        <p:nvPicPr>
          <p:cNvPr id="163" name="allwoNLM" descr=""/>
          <p:cNvPicPr/>
          <p:nvPr/>
        </p:nvPicPr>
        <p:blipFill>
          <a:blip r:embed="rId2"/>
          <a:stretch/>
        </p:blipFill>
        <p:spPr>
          <a:xfrm>
            <a:off x="5118120" y="2590920"/>
            <a:ext cx="4292640" cy="3170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694198-2F1A-45E8-BECF-56F70885FEDE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5.2. Zastosowania zoptymalizowanej metody MDS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9162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0920" indent="-250920">
              <a:lnSpc>
                <a:spcPct val="80000"/>
              </a:lnSpc>
              <a:spcBef>
                <a:spcPts val="1199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Zoomowanie w przestrzeni wybranej interakcyjnie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6204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n.p. zoomowanie w sąsiedztwie punktu nr 426: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166" name="p426" descr=""/>
          <p:cNvPicPr/>
          <p:nvPr/>
        </p:nvPicPr>
        <p:blipFill>
          <a:blip r:embed="rId1"/>
          <a:stretch/>
        </p:blipFill>
        <p:spPr>
          <a:xfrm>
            <a:off x="1238400" y="2077920"/>
            <a:ext cx="7016760" cy="4780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F0AF68-E63E-4EB6-A429-E0FC9B99099D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Cele pracy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9162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0920" indent="-250920">
              <a:spcBef>
                <a:spcPts val="1400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rzedstawienie przeglądu istniejących metod wizualizacyjnych dla danych wielowymiarowych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50920" indent="-250920">
              <a:spcBef>
                <a:spcPts val="1400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orównanie dwóch wybranych metod: skalowania wielowymiarowego (MDS) i samoorganizujących się map Kohonena (SOM) z punktu widzenia zachowania topografii danych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50920" indent="-250920">
              <a:spcBef>
                <a:spcPts val="1400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terakcyjna eksploracja danych medycznych oraz wizualizacja granic decyzji klasyfikatorów jako narzędzie wspomagające diagnozy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50920"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CB975-68B9-4AD2-987B-888C96251F5E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5.3. Zastosowania zoptymalizowanej metody MDS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9162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marL="230760" indent="-230760">
              <a:lnSpc>
                <a:spcPct val="80000"/>
              </a:lnSpc>
              <a:spcBef>
                <a:spcPts val="1199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Wizualizacja granic decyzji klasyfikator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08760" indent="-20268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  <a:tab algn="l" pos="10834560"/>
              </a:tabLst>
            </a:pPr>
            <a:r>
              <a:rPr b="0" lang="pl-PL" sz="1600" spc="-1" strike="noStrike">
                <a:solidFill>
                  <a:srgbClr val="40458c"/>
                </a:solidFill>
                <a:latin typeface="Tahoma"/>
              </a:rPr>
              <a:t>generowanie nowych punktów </a:t>
            </a:r>
            <a:r>
              <a:rPr b="0" i="1" lang="pl-PL" sz="1600" spc="-1" strike="noStrike">
                <a:solidFill>
                  <a:srgbClr val="40458c"/>
                </a:solidFill>
                <a:latin typeface="Tahoma"/>
              </a:rPr>
              <a:t>przypadkowych w sąsiedztwie</a:t>
            </a:r>
            <a:r>
              <a:rPr b="0" lang="pl-PL" sz="1600" spc="-1" strike="noStrike">
                <a:solidFill>
                  <a:srgbClr val="40458c"/>
                </a:solidFill>
                <a:latin typeface="Tahoma"/>
              </a:rPr>
              <a:t> granicy decyzji.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608760" indent="-20268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  <a:tab algn="l" pos="10834560"/>
              </a:tabLst>
            </a:pPr>
            <a:r>
              <a:rPr b="0" lang="pl-PL" sz="1600" spc="-1" strike="noStrike">
                <a:solidFill>
                  <a:srgbClr val="40458c"/>
                </a:solidFill>
                <a:latin typeface="Tahoma"/>
              </a:rPr>
              <a:t>n.p. bazy danych psychometrycznych, przypadki nr 554 i 426.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608760" indent="-20268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  <a:tab algn="l" pos="10834560"/>
              </a:tabLst>
            </a:pPr>
            <a:r>
              <a:rPr b="0" lang="pl-PL" sz="1600" spc="-1" strike="noStrike">
                <a:solidFill>
                  <a:srgbClr val="40458c"/>
                </a:solidFill>
                <a:latin typeface="Tahoma"/>
              </a:rPr>
              <a:t>wizualizacja granic decyzji dla sieci neuronowej “IncNet”.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608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  <a:tab algn="l" pos="1083456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lvl="1" marL="608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  <a:tab algn="l" pos="1083456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lvl="1" marL="608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  <a:tab algn="l" pos="1083456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lvl="1" marL="608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  <a:tab algn="l" pos="1083456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lvl="1" marL="608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  <a:tab algn="l" pos="1083456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marL="230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230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230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230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230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230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230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230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230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230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230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r>
              <a:rPr b="0" lang="pl-PL" sz="1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Assigned class: </a:t>
            </a:r>
            <a:r>
              <a:rPr b="1" lang="pl-PL" sz="1400" spc="-1" strike="noStrike">
                <a:solidFill>
                  <a:srgbClr val="40458c"/>
                </a:solidFill>
                <a:latin typeface="Tahoma"/>
              </a:rPr>
              <a:t>organic</a:t>
            </a: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 (p=0.826)</a:t>
            </a: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Assigned class: </a:t>
            </a:r>
            <a:r>
              <a:rPr b="1" lang="pl-PL" sz="1400" spc="-1" strike="noStrike">
                <a:solidFill>
                  <a:srgbClr val="40458c"/>
                </a:solidFill>
                <a:latin typeface="Tahoma"/>
              </a:rPr>
              <a:t>schizophrenia</a:t>
            </a: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 (p=0.428)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230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Alternative class: </a:t>
            </a:r>
            <a:r>
              <a:rPr b="1" lang="pl-PL" sz="1400" spc="-1" strike="noStrike">
                <a:solidFill>
                  <a:srgbClr val="40458c"/>
                </a:solidFill>
                <a:latin typeface="Tahoma"/>
              </a:rPr>
              <a:t>schizophrenia</a:t>
            </a: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 (p=0.062)</a:t>
            </a: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Alternative class: </a:t>
            </a:r>
            <a:r>
              <a:rPr b="1" lang="pl-PL" sz="1400" spc="-1" strike="noStrike">
                <a:solidFill>
                  <a:srgbClr val="40458c"/>
                </a:solidFill>
                <a:latin typeface="Tahoma"/>
              </a:rPr>
              <a:t>neurosis</a:t>
            </a: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 (p=0.309)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169" name="p554gauss" descr=""/>
          <p:cNvPicPr/>
          <p:nvPr/>
        </p:nvPicPr>
        <p:blipFill>
          <a:blip r:embed="rId1"/>
          <a:stretch/>
        </p:blipFill>
        <p:spPr>
          <a:xfrm>
            <a:off x="660240" y="2590920"/>
            <a:ext cx="3624480" cy="3581280"/>
          </a:xfrm>
          <a:prstGeom prst="rect">
            <a:avLst/>
          </a:prstGeom>
          <a:ln w="0">
            <a:noFill/>
          </a:ln>
        </p:spPr>
      </p:pic>
      <p:pic>
        <p:nvPicPr>
          <p:cNvPr id="170" name="p426gauss" descr=""/>
          <p:cNvPicPr/>
          <p:nvPr/>
        </p:nvPicPr>
        <p:blipFill>
          <a:blip r:embed="rId2"/>
          <a:stretch/>
        </p:blipFill>
        <p:spPr>
          <a:xfrm>
            <a:off x="5365800" y="2590920"/>
            <a:ext cx="3578040" cy="3504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EA12EC-28C5-4667-9788-8BF23BAF295F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6. Konkluzje i perspektywy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9162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233280" indent="-233280">
              <a:lnSpc>
                <a:spcPct val="90000"/>
              </a:lnSpc>
              <a:spcBef>
                <a:spcPts val="1001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Praktyczne porównanie algorytmów SOM i MDS pozwala wnioskować,    iż MDS jest lepszym narzędziem do odwzorowywania struktur danych więc lepiej się nadaje do ich interakcyjnej eksploracji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233280" indent="-233280">
              <a:lnSpc>
                <a:spcPct val="110000"/>
              </a:lnSpc>
              <a:spcBef>
                <a:spcPts val="1001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Skalowanie wielowymiarowe zostało ulepszone i dostosowane do interakcyjnej eksploracji wielowymiarowych danych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233280" indent="-233280">
              <a:lnSpc>
                <a:spcPct val="110000"/>
              </a:lnSpc>
              <a:spcBef>
                <a:spcPts val="1001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Pomyślnie zastosowano metodę MDS do wizualizacji wielowymiarowych danych medycznych oraz do wizualizacji granic decyzji klasyfikatora.                   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233280" indent="0">
              <a:lnSpc>
                <a:spcPct val="3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233280" indent="-233280">
              <a:lnSpc>
                <a:spcPct val="90000"/>
              </a:lnSpc>
              <a:spcBef>
                <a:spcPts val="1001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Minimalizacja stresu metodą gradientową z MultiStart’em jest uzasadniona w przypadku małych zbiorów danych. Dla większych zbiorów, należy poszukiwać tańszych metod globalnych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233280" indent="-233280">
              <a:lnSpc>
                <a:spcPct val="90000"/>
              </a:lnSpc>
              <a:spcBef>
                <a:spcPts val="1001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Program iMDS przedstawiający 2-wymiarową konfigurację jest przygotowaniem do wizualizacji w 3 wymiarach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233280" indent="-233280">
              <a:lnSpc>
                <a:spcPct val="90000"/>
              </a:lnSpc>
              <a:spcBef>
                <a:spcPts val="1001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Interaktywna wizualizacja uwzględniająca informację klasową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233280" indent="-233280">
              <a:lnSpc>
                <a:spcPct val="90000"/>
              </a:lnSpc>
              <a:spcBef>
                <a:spcPts val="1001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Wizualizacja lokalnych poziomów zniekształceń relacji sąsiedztwa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2332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341A5D-3628-45FA-8425-308AF6D036FA}" type="slidenum">
              <a:t>21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Tezy pracy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9162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0920" indent="-250920">
              <a:spcBef>
                <a:spcPts val="1400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mplementacja polepszonego algorytmu MDS pozwala na włączenie go w narzędzie interakcyjnej eksploracji danych oraz wizualizacji granic decyzji wybranego klasyfikator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50920" indent="-250920">
              <a:spcBef>
                <a:spcPts val="1400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etody ekstrakcji cech mogą z sukcesem być zastosowane do wizualizacji danych wielowymiarowych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50920" indent="-250920">
              <a:spcBef>
                <a:spcPts val="1400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kalowanie wielowymiarowe jest lepiej przystosowane do odwzorowywania topografii danych niż mapy samoorganizujące się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D361C2-17AF-49B1-8872-A5BDBBFE0130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Plan pracy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9162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7780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1.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ele wizualizacji danych wielowymiarowych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7780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2.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rzegląd metod pozwalających na wizualizację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7780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3.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amoorganizujące się mapy Kohonena (SOM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7780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4.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etody skalowania wielowymiarowego (MDS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7780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5.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Zastosowania zoptymalizowanej metody MD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7780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6.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Konkluzje i perspektyw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B7DADB-DD79-4862-B2F7-8FD2A78B7DB4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1. Cele wizualizacji danych wielowymiarowych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9162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0920" indent="-250920">
              <a:lnSpc>
                <a:spcPct val="90000"/>
              </a:lnSpc>
              <a:spcBef>
                <a:spcPts val="1199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Poznanie danych poprzez określenie ich globalnej struktury, wykrywanie obecności klasterów i danych odstających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62040" indent="-220680">
              <a:lnSpc>
                <a:spcPct val="130000"/>
              </a:lnSpc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Jakie dane ?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6204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Dane numeryczne (wystarczy możliwość określenia podobieństwa)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6204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(dane medyczne: różnorodne skale, nieliniowa struktura.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62040" indent="-220680">
              <a:lnSpc>
                <a:spcPct val="130000"/>
              </a:lnSpc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Jaka wizualizacja ?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6204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Przedstawiająca wykres punktowy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6204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(ważna informacja: relacje sąsiedztwa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6204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250920" indent="-250920">
              <a:spcBef>
                <a:spcPts val="1400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Ekstrakcja cech umożliwia zastosowanie niektórych kosztownych metod klasyfikacyjnych dla danych opisanych w dużej liczbie wymiarów</a:t>
            </a:r>
            <a:r>
              <a:rPr b="0" lang="pl-PL" sz="2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F79A0D-7ADC-4142-98F9-1D00944B05D2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2.1. Przegląd istniejących metod wizualizacji danych wielowymiarowych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02920" y="1447560"/>
            <a:ext cx="85028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0920" indent="0">
              <a:spcBef>
                <a:spcPts val="1400"/>
              </a:spcBef>
              <a:buNone/>
              <a:tabLst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50920" indent="0">
              <a:spcBef>
                <a:spcPts val="1400"/>
              </a:spcBef>
              <a:buNone/>
              <a:tabLst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907920" y="1295280"/>
          <a:ext cx="8502480" cy="3283200"/>
        </p:xfrm>
        <a:graphic>
          <a:graphicData uri="http://schemas.openxmlformats.org/drawingml/2006/table">
            <a:tbl>
              <a:tblPr/>
              <a:tblGrid>
                <a:gridCol w="3459240"/>
                <a:gridCol w="1235880"/>
                <a:gridCol w="216000"/>
                <a:gridCol w="1038600"/>
                <a:gridCol w="329400"/>
                <a:gridCol w="2223360"/>
              </a:tblGrid>
              <a:tr h="7182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buClr>
                          <a:srgbClr val="40458c"/>
                        </a:buClr>
                        <a:buSzPct val="110000"/>
                        <a:buFont typeface="Symbol" charset="2"/>
                        <a:buChar char="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Metody liniowe: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591120"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Metoda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Metoda statystyczna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 gridSpan="2"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Sieć neuronowa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Zachowana informacja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9320">
                <a:tc>
                  <a:txBody>
                    <a:bodyPr lIns="76320" rIns="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Principal Components Analysis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7632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7632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Monotype Sorts"/>
                          <a:ea typeface="Monotype Sorts"/>
                        </a:rPr>
                        <a:t>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7632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gridSpan="2">
                  <a:txBody>
                    <a:bodyPr lIns="7632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Monotype Sorts"/>
                          <a:ea typeface="Monotype Sorts"/>
                        </a:rPr>
                        <a:t>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7632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6320" rIns="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Wariancja danych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7632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5960">
                <a:tc>
                  <a:txBody>
                    <a:bodyPr lIns="76320" rIns="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Projection pursuit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7632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7632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Monotype Sorts"/>
                          <a:ea typeface="Monotype Sorts"/>
                        </a:rPr>
                        <a:t>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7632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gridSpan="2">
                  <a:txBody>
                    <a:bodyPr lIns="7632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7632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6320" rIns="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Wariancja i odległości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7632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8600">
                <a:tc>
                  <a:txBody>
                    <a:bodyPr lIns="76320" rIns="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Grand tour methods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7632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7632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Monotype Sorts"/>
                          <a:ea typeface="Monotype Sorts"/>
                        </a:rPr>
                        <a:t>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7632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 gridSpan="2">
                  <a:txBody>
                    <a:bodyPr lIns="7632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7632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6320" rIns="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Dynamiczny obraz (przekroje)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7632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C744FF-4B18-402B-BC82-7096114212E5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2.2. Przegląd istniejących metod wizualizacji danych wielowymiarowych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907920" y="1371600"/>
          <a:ext cx="8502480" cy="4873680"/>
        </p:xfrm>
        <a:graphic>
          <a:graphicData uri="http://schemas.openxmlformats.org/drawingml/2006/table">
            <a:tbl>
              <a:tblPr/>
              <a:tblGrid>
                <a:gridCol w="3459240"/>
                <a:gridCol w="1235880"/>
                <a:gridCol w="216000"/>
                <a:gridCol w="1038600"/>
                <a:gridCol w="329400"/>
                <a:gridCol w="2223360"/>
              </a:tblGrid>
              <a:tr h="5101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40458c"/>
                        </a:buClr>
                        <a:buSzPct val="110000"/>
                        <a:buFont typeface="Symbol" charset="2"/>
                        <a:buChar char="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Metody nieliniowe: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581760"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Metoda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Metoda statystyczna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 gridSpan="2"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Sieć neuronowa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Zachowana informacja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57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Multidimensional scaling (MDS)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Monotype Sorts"/>
                          <a:ea typeface="Monotype Sorts"/>
                        </a:rPr>
                        <a:t>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Monotype Sorts"/>
                          <a:ea typeface="Monotype Sorts"/>
                        </a:rPr>
                        <a:t>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Odległości lub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dane odmienności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NeuroScale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Monotype Sorts"/>
                          <a:ea typeface="Monotype Sorts"/>
                        </a:rPr>
                        <a:t>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Odległości oraz dodatkowa wiedza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68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Curvilinear Components Analysis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Monotype Sorts"/>
                          <a:ea typeface="Monotype Sorts"/>
                        </a:rPr>
                        <a:t>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Niektóre odległości („rozwijanie”)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68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Autoassociative feedforward neural network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Monotype Sorts"/>
                          <a:ea typeface="Monotype Sorts"/>
                        </a:rPr>
                        <a:t>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Nieliniowe korelacje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9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Self-organizing maps (SOM)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Monotype Sorts"/>
                          <a:ea typeface="Monotype Sorts"/>
                        </a:rPr>
                        <a:t>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Relacje sąsiedztwa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67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Generative Topographic Mapping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Monotype Sorts"/>
                          <a:ea typeface="Monotype Sorts"/>
                        </a:rPr>
                        <a:t>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Odległości (statystycznie)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F83539-3C3B-4856-A623-F0FB9C7D32C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2.3. Analiza Składników Głównych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9162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0920" indent="-250920">
              <a:lnSpc>
                <a:spcPct val="90000"/>
              </a:lnSpc>
              <a:spcBef>
                <a:spcPts val="1400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40458c"/>
                </a:solidFill>
                <a:latin typeface="Tahoma"/>
              </a:rPr>
              <a:t>Poszukiwanie takiej liniowej transformacji danych, aby po transformacji dane miały największą wariancję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50920" indent="-250920">
              <a:lnSpc>
                <a:spcPct val="90000"/>
              </a:lnSpc>
              <a:spcBef>
                <a:spcPts val="1400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40458c"/>
                </a:solidFill>
                <a:latin typeface="Tahoma"/>
              </a:rPr>
              <a:t>Wizualizacja polega na wykreśleniu dwóch pierwszych kierunków głównych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50920" indent="-250920">
              <a:lnSpc>
                <a:spcPct val="90000"/>
              </a:lnSpc>
              <a:spcBef>
                <a:spcPts val="1400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40458c"/>
                </a:solidFill>
                <a:latin typeface="Tahoma"/>
              </a:rPr>
              <a:t>Dwie klasy metod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62040" indent="-220680">
              <a:lnSpc>
                <a:spcPct val="90000"/>
              </a:lnSpc>
              <a:spcBef>
                <a:spcPts val="9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Rozkład spektralny (SpD) macierzy korelacji danych:</a:t>
            </a: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S</a:t>
            </a:r>
            <a:r>
              <a:rPr b="0" lang="pl-PL" sz="2400" spc="-1" strike="noStrike" baseline="-25000">
                <a:solidFill>
                  <a:srgbClr val="40458c"/>
                </a:solidFill>
                <a:latin typeface="Tahoma"/>
              </a:rPr>
              <a:t>T</a:t>
            </a: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   =  C . D . C</a:t>
            </a:r>
            <a:r>
              <a:rPr b="0" lang="pl-PL" sz="2400" spc="-1" strike="noStrike" baseline="30000">
                <a:solidFill>
                  <a:srgbClr val="40458c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62040" indent="-220680">
              <a:lnSpc>
                <a:spcPct val="90000"/>
              </a:lnSpc>
              <a:spcBef>
                <a:spcPts val="9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Rozkład na wartości osobliwe (SVD) macierzy danych:</a:t>
            </a: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X</a:t>
            </a:r>
            <a:r>
              <a:rPr b="0" lang="pl-PL" sz="2400" spc="-1" strike="noStrike" baseline="-25000">
                <a:solidFill>
                  <a:srgbClr val="40458c"/>
                </a:solidFill>
                <a:latin typeface="Tahoma"/>
              </a:rPr>
              <a:t>B</a:t>
            </a: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  =  N . D . M</a:t>
            </a:r>
            <a:r>
              <a:rPr b="0" lang="pl-PL" sz="2400" spc="-1" strike="noStrike" baseline="30000">
                <a:solidFill>
                  <a:srgbClr val="40458c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62040" indent="-220680">
              <a:lnSpc>
                <a:spcPct val="90000"/>
              </a:lnSpc>
              <a:spcBef>
                <a:spcPts val="901"/>
              </a:spcBef>
              <a:buClr>
                <a:srgbClr val="40458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Przewaga numeryczna ostatniej metody (SVD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01189B-D265-423B-B480-0292D91FD44C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2.4. Ograniczenia rzutowania liniowego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9162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2" marL="108108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nie nadaje się do wizualizacji zbiorów o nieliniowej strukturze (przykład poniżej: 5-wymiarowy sympleks),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8108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czułość na obecność danych odstających. („outliers”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8108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08108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08108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08108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08108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08108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08108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08108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08108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08108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08108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081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081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Rzutowanie </a:t>
            </a:r>
            <a:r>
              <a:rPr b="1" lang="pl-PL" sz="2000" spc="-1" strike="noStrike">
                <a:solidFill>
                  <a:srgbClr val="40458c"/>
                </a:solidFill>
                <a:latin typeface="Tahoma"/>
              </a:rPr>
              <a:t>liniowe (PCA)</a:t>
            </a: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Rzutowanie </a:t>
            </a:r>
            <a:r>
              <a:rPr b="1" lang="pl-PL" sz="2000" spc="-1" strike="noStrike">
                <a:solidFill>
                  <a:srgbClr val="40458c"/>
                </a:solidFill>
                <a:latin typeface="Tahoma"/>
              </a:rPr>
              <a:t>nieliniowe (MDS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81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3 grupy (2,3 i 5) mieszane</a:t>
            </a: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6 grup odseparowan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124" name="simpPCAMDS" descr=""/>
          <p:cNvPicPr/>
          <p:nvPr/>
        </p:nvPicPr>
        <p:blipFill>
          <a:blip r:embed="rId1"/>
          <a:stretch/>
        </p:blipFill>
        <p:spPr>
          <a:xfrm>
            <a:off x="577800" y="2438280"/>
            <a:ext cx="8874000" cy="3648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B32878-CB5D-4529-989C-FF7AE4790CA1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4T08:44:46Z</dcterms:created>
  <dc:creator>Elzbieta i Antoine Naud</dc:creator>
  <dc:description/>
  <dc:language>en-US</dc:language>
  <cp:lastModifiedBy>Antoine Naud</cp:lastModifiedBy>
  <cp:lastPrinted>2001-09-13T10:28:59Z</cp:lastPrinted>
  <dcterms:modified xsi:type="dcterms:W3CDTF">2001-09-13T10:41:40Z</dcterms:modified>
  <cp:revision>260</cp:revision>
  <dc:subject/>
  <dc:title>Neural and statistical methods for the visualization of multidimensional data</dc:title>
</cp:coreProperties>
</file>